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6FE-1594-4FE4-A48E-C92F0A8F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F07-6A3C-4315-B7C5-165F5F84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91C-5FC6-448C-BA04-2ABE4C0C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030-3013-46BC-8A39-07E4497A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04F-D4A3-48BE-9157-A0040D51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17A-D3FC-4C87-A1A7-BCDB2610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A2A-55ED-4C16-AE2F-A703F60C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859-01AF-4AD2-A0E2-6F7E9ED8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515-E502-4BA7-BFD8-50B2741D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5FF-9D2C-46D7-83FF-8D21D8B6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FC8-023A-4692-ACFF-FD823712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829-BE70-4BC9-98A8-4F6C4AA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9B29-FF61-447E-8781-B6F2B5958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19320" y="304920"/>
          <a:ext cx="716256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71625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317360" y="589608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3124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8280" y="57150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240320" y="5943600"/>
            <a:ext cx="19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39672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39672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62520" y="0"/>
          <a:ext cx="5181480" cy="60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0"/>
                    <a:ext cx="51814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87680" y="5867280"/>
            <a:ext cx="205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3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0"/>
          <a:ext cx="8534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317000" y="586728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4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14400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04920" y="579132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3218040"/>
          <a:ext cx="9144000" cy="28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18040"/>
                    <a:ext cx="914400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545600" y="609300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4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52280"/>
          <a:ext cx="914400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280"/>
                    <a:ext cx="91440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3124080"/>
          <a:ext cx="9144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9144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164000" y="5867280"/>
            <a:ext cx="203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4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-76320"/>
          <a:ext cx="7010280" cy="335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-76320"/>
                    <a:ext cx="70102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57200" y="-609480"/>
          <a:ext cx="7010280" cy="61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7010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010280" y="56386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6.10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98108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29400" y="6019920"/>
            <a:ext cx="22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6.10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838080"/>
          <a:ext cx="784368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8436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162920" y="6019920"/>
            <a:ext cx="16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.8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0"/>
          <a:ext cx="883908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0" y="2133720"/>
          <a:ext cx="91440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9343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0"/>
          <a:ext cx="547236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4723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6520" y="3581280"/>
          <a:ext cx="5743440" cy="200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581280"/>
                    <a:ext cx="574344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66880" y="575928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934320" y="60199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2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4000" cy="53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3320" y="594360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2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14400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6320" y="59436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086600" y="5943600"/>
            <a:ext cx="182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2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914400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3152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6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520" y="380880"/>
          <a:ext cx="861048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61048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90920" y="54864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-304920"/>
          <a:ext cx="86868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4920"/>
                    <a:ext cx="8686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0" y="4191120"/>
          <a:ext cx="387180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91120"/>
                    <a:ext cx="38718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844760" y="579132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 8.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48320" y="5029200"/>
          <a:ext cx="4038120" cy="109656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5640"/>
                <a:gridCol w="846000"/>
                <a:gridCol w="84564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43800" y="5791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6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0" y="2590920"/>
          <a:ext cx="914400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914400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666880" y="3886200"/>
            <a:ext cx="4038480" cy="1958760"/>
            <a:chOff x="2666880" y="3886200"/>
            <a:chExt cx="4038480" cy="1958760"/>
          </a:xfrm>
        </p:grpSpPr>
        <p:graphicFrame>
          <p:nvGraphicFramePr>
            <p:cNvPr id="160" name=""/>
            <p:cNvGraphicFramePr/>
            <p:nvPr/>
          </p:nvGraphicFramePr>
          <p:xfrm>
            <a:off x="4724280" y="3886200"/>
            <a:ext cx="1981080" cy="194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886200"/>
                      <a:ext cx="1981080" cy="19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2666880" y="3886200"/>
            <a:ext cx="2057400" cy="1958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3886200"/>
                      <a:ext cx="2057400" cy="195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57200" y="2743200"/>
          <a:ext cx="845820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845820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629400" y="6019920"/>
            <a:ext cx="239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0"/>
          <a:ext cx="800100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0"/>
                    <a:ext cx="8001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10280" y="571500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11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9144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2666880"/>
          <a:ext cx="9144000" cy="34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7086600" y="5943600"/>
            <a:ext cx="182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11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362320" y="0"/>
          <a:ext cx="3886200" cy="26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0"/>
                    <a:ext cx="388620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685800" y="2895480"/>
          <a:ext cx="7315200" cy="31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731520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477120" y="601992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30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0" y="2070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-763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0"/>
          <a:ext cx="808200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80820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7219800" y="5638680"/>
            <a:ext cx="192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9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09680" y="4648320"/>
          <a:ext cx="4038480" cy="124884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6000"/>
                <a:gridCol w="846000"/>
                <a:gridCol w="84564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086600" y="5867280"/>
            <a:ext cx="20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8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380880"/>
          <a:ext cx="85629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85629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"/>
          <p:cNvGrpSpPr/>
          <p:nvPr/>
        </p:nvGrpSpPr>
        <p:grpSpPr>
          <a:xfrm>
            <a:off x="990720" y="1981080"/>
            <a:ext cx="6857640" cy="4114440"/>
            <a:chOff x="990720" y="1981080"/>
            <a:chExt cx="6857640" cy="4114440"/>
          </a:xfrm>
        </p:grpSpPr>
        <p:graphicFrame>
          <p:nvGraphicFramePr>
            <p:cNvPr id="197" name=""/>
            <p:cNvGraphicFramePr/>
            <p:nvPr/>
          </p:nvGraphicFramePr>
          <p:xfrm>
            <a:off x="5033880" y="3978360"/>
            <a:ext cx="2339280" cy="20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3880" y="3978360"/>
                      <a:ext cx="23392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"/>
            <p:cNvGraphicFramePr/>
            <p:nvPr/>
          </p:nvGraphicFramePr>
          <p:xfrm>
            <a:off x="4383360" y="1981080"/>
            <a:ext cx="3465000" cy="224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83360" y="1981080"/>
                      <a:ext cx="3465000" cy="224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"/>
            <p:cNvGraphicFramePr/>
            <p:nvPr/>
          </p:nvGraphicFramePr>
          <p:xfrm>
            <a:off x="990720" y="2405880"/>
            <a:ext cx="2617200" cy="368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90720" y="2405880"/>
                      <a:ext cx="2617200" cy="368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3" name=""/>
          <p:cNvGraphicFramePr/>
          <p:nvPr/>
        </p:nvGraphicFramePr>
        <p:xfrm>
          <a:off x="763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339840"/>
          <a:ext cx="74674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39840"/>
                    <a:ext cx="74674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316640" y="5846760"/>
            <a:ext cx="19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438280" y="5486400"/>
          <a:ext cx="4038480" cy="102024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6000"/>
                <a:gridCol w="846000"/>
                <a:gridCol w="845640"/>
              </a:tblGrid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28520"/>
          <a:ext cx="6782040" cy="53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8520"/>
                    <a:ext cx="678204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8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320" y="5837400"/>
          <a:ext cx="4038120" cy="102024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5640"/>
                <a:gridCol w="846000"/>
                <a:gridCol w="845640"/>
              </a:tblGrid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 6.7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0"/>
          <a:ext cx="36608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660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581280" y="1206360"/>
          <a:ext cx="556272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206360"/>
                    <a:ext cx="556272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049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9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87600" y="0"/>
            <a:ext cx="5968800" cy="563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371600" y="0"/>
          <a:ext cx="62485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62485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7393320" y="594360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7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6.9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0"/>
          <a:ext cx="91440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066680" y="3505320"/>
          <a:ext cx="7772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05320"/>
                    <a:ext cx="7772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393320" y="6093000"/>
            <a:ext cx="17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6.6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90920" y="0"/>
          <a:ext cx="357660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0"/>
                    <a:ext cx="3576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04920" y="3429000"/>
          <a:ext cx="845820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29000"/>
                    <a:ext cx="845820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8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0"/>
          <a:ext cx="7848720" cy="351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0"/>
                    <a:ext cx="7848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544160" y="614376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 6.9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3520" y="195120"/>
          <a:ext cx="708660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5120"/>
                    <a:ext cx="708660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763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304920"/>
          <a:ext cx="800100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00100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7165080" y="541008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8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14600" y="5227560"/>
          <a:ext cx="4038120" cy="140148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5640"/>
                <a:gridCol w="846000"/>
                <a:gridCol w="845640"/>
              </a:tblGrid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124040" y="5867280"/>
            <a:ext cx="20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2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304920"/>
          <a:ext cx="82296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82296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28600" y="59436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44880" y="614376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0"/>
          <a:ext cx="73915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3915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3276720" y="3200400"/>
          <a:ext cx="58672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200400"/>
                    <a:ext cx="5867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7165440" y="5943600"/>
            <a:ext cx="20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4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486400" cy="36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0" y="6066000"/>
          <a:ext cx="3759120" cy="792000"/>
        </p:xfrm>
        <a:graphic>
          <a:graphicData uri="http://schemas.openxmlformats.org/drawingml/2006/table">
            <a:tbl>
              <a:tblPr/>
              <a:tblGrid>
                <a:gridCol w="609480"/>
                <a:gridCol w="787320"/>
                <a:gridCol w="78768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600200" y="304920"/>
          <a:ext cx="670572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920"/>
                    <a:ext cx="670572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317720" y="5896080"/>
            <a:ext cx="189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6.14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819520" y="5410080"/>
          <a:ext cx="4038120" cy="1096560"/>
        </p:xfrm>
        <a:graphic>
          <a:graphicData uri="http://schemas.openxmlformats.org/drawingml/2006/table">
            <a:tbl>
              <a:tblPr/>
              <a:tblGrid>
                <a:gridCol w="654480"/>
                <a:gridCol w="846360"/>
                <a:gridCol w="845640"/>
                <a:gridCol w="846000"/>
                <a:gridCol w="84564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469280" y="609588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4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76520" y="0"/>
          <a:ext cx="5524560" cy="30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0"/>
                    <a:ext cx="552456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0" y="3124080"/>
          <a:ext cx="914400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124080"/>
                    <a:ext cx="9144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0"/>
          <a:ext cx="967752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7752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7545240" y="614376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4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1371600" y="0"/>
          <a:ext cx="65530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0"/>
                    <a:ext cx="6553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7165080" y="5943600"/>
            <a:ext cx="19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3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0" y="2590920"/>
          <a:ext cx="944892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4489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7545240" y="614376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7.13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133720" y="0"/>
          <a:ext cx="3962160" cy="26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0"/>
                    <a:ext cx="39621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692440" y="3032280"/>
          <a:ext cx="3759120" cy="79344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3124080"/>
          <a:ext cx="91440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9144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7165080" y="5943600"/>
            <a:ext cx="19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14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362320" y="0"/>
          <a:ext cx="4038480" cy="34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0"/>
                    <a:ext cx="403848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143000" y="0"/>
          <a:ext cx="6934320" cy="61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6934320" cy="61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165080" y="5943600"/>
            <a:ext cx="19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14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990720" y="1523880"/>
          <a:ext cx="6781680" cy="44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6781680" cy="44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7545240" y="614376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 8.14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0" y="380880"/>
          <a:ext cx="914400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91440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838080" y="228600"/>
          <a:ext cx="75708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75708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317720" y="5896080"/>
            <a:ext cx="189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10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3575160"/>
          <a:ext cx="8915400" cy="22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75160"/>
                    <a:ext cx="891540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59092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17520" y="6006960"/>
            <a:ext cx="181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2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362320" y="0"/>
          <a:ext cx="3981240" cy="34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39812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3505320"/>
          <a:ext cx="9144000" cy="23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05320"/>
                    <a:ext cx="914400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609480" y="31680"/>
          <a:ext cx="7772400" cy="575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680"/>
                    <a:ext cx="777240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7165440" y="5943600"/>
            <a:ext cx="20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7.14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316280" y="5791320"/>
            <a:ext cx="205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 8.2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73200" y="136440"/>
          <a:ext cx="847080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136440"/>
                    <a:ext cx="847080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322400" y="5715000"/>
            <a:ext cx="181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 8.2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0"/>
          <a:ext cx="586728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86728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191120" y="3352680"/>
          <a:ext cx="49528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352680"/>
                    <a:ext cx="49528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3657600"/>
          <a:ext cx="91440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7012440" y="579132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K 8.2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0"/>
          <a:ext cx="4114800" cy="37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11480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0" y="0"/>
          <a:ext cx="4572000" cy="360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0"/>
                    <a:ext cx="457200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590920" y="2133720"/>
          <a:ext cx="6553080" cy="38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133720"/>
                    <a:ext cx="6553080" cy="38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879240" y="579132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K 8.3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0"/>
          <a:ext cx="3200400" cy="31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20040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6064200"/>
          <a:ext cx="3759120" cy="793800"/>
        </p:xfrm>
        <a:graphic>
          <a:graphicData uri="http://schemas.openxmlformats.org/drawingml/2006/table">
            <a:tbl>
              <a:tblPr/>
              <a:tblGrid>
                <a:gridCol w="609480"/>
                <a:gridCol w="787680"/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28:26Z</dcterms:created>
  <dc:creator>Admin</dc:creator>
  <dc:description/>
  <dc:language>en-US</dc:language>
  <cp:lastModifiedBy>cyfair</cp:lastModifiedBy>
  <dcterms:modified xsi:type="dcterms:W3CDTF">2008-04-16T12:36:47Z</dcterms:modified>
  <cp:revision>7</cp:revision>
  <dc:subject/>
  <dc:title>Slide 1</dc:title>
</cp:coreProperties>
</file>